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F72-E6F6-45E0-AA21-BE41E597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A8F-7AE7-4362-A05F-7C5804F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CC7-ADBE-4191-9FE1-941BE65F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14C-C235-40C3-A4B6-4B0515B6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95A-B09C-4D2C-ADB8-4744E41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3CE-81E4-4D8A-AE8C-8CF666C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304-2C7C-41C6-AA56-530F9F60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AD5-D220-4DA8-A3ED-288AA861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C25-9045-4CBD-9F52-41CE0C9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D77-5DCC-41E9-A702-D30F21EE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871-081E-4DE9-8B43-D23D5AB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F84-6A6A-4A16-8601-E224E08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2A8-4F17-4452-B0B8-467C002388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671560"/>
            <a:ext cx="5040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6:47Z</dcterms:modified>
  <cp:revision>587</cp:revision>
  <dc:subject/>
  <dc:title>Diapositiva 1</dc:title>
</cp:coreProperties>
</file>